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  <p:sldId id="285" r:id="rId71"/>
    <p:sldId id="286" r:id="rId72"/>
    <p:sldId id="287" r:id="rId73"/>
    <p:sldId id="288" r:id="rId74"/>
    <p:sldId id="289" r:id="rId75"/>
    <p:sldId id="290" r:id="rId76"/>
    <p:sldId id="291" r:id="rId77"/>
    <p:sldId id="292" r:id="rId78"/>
    <p:sldId id="293" r:id="rId79"/>
    <p:sldId id="294" r:id="rId80"/>
    <p:sldId id="295" r:id="rId81"/>
    <p:sldId id="296" r:id="rId82"/>
    <p:sldId id="297" r:id="rId8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slide" Target="slides/slide30.xml"/><Relationship Id="rId72" Type="http://schemas.openxmlformats.org/officeDocument/2006/relationships/slide" Target="slides/slide31.xml"/><Relationship Id="rId73" Type="http://schemas.openxmlformats.org/officeDocument/2006/relationships/slide" Target="slides/slide32.xml"/><Relationship Id="rId74" Type="http://schemas.openxmlformats.org/officeDocument/2006/relationships/slide" Target="slides/slide33.xml"/><Relationship Id="rId75" Type="http://schemas.openxmlformats.org/officeDocument/2006/relationships/slide" Target="slides/slide34.xml"/><Relationship Id="rId76" Type="http://schemas.openxmlformats.org/officeDocument/2006/relationships/slide" Target="slides/slide35.xml"/><Relationship Id="rId77" Type="http://schemas.openxmlformats.org/officeDocument/2006/relationships/slide" Target="slides/slide36.xml"/><Relationship Id="rId78" Type="http://schemas.openxmlformats.org/officeDocument/2006/relationships/slide" Target="slides/slide37.xml"/><Relationship Id="rId79" Type="http://schemas.openxmlformats.org/officeDocument/2006/relationships/slide" Target="slides/slide38.xml"/><Relationship Id="rId80" Type="http://schemas.openxmlformats.org/officeDocument/2006/relationships/slide" Target="slides/slide39.xml"/><Relationship Id="rId81" Type="http://schemas.openxmlformats.org/officeDocument/2006/relationships/slide" Target="slides/slide40.xml"/><Relationship Id="rId82" Type="http://schemas.openxmlformats.org/officeDocument/2006/relationships/slide" Target="slides/slide41.xml"/><Relationship Id="rId83" Type="http://schemas.openxmlformats.org/officeDocument/2006/relationships/slide" Target="slides/slide42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&#33539;&#25991;1&#65306;&#23478;&#20065;&#32654;&#39135;&#8212;&#8212;&#37221;&#31958;.pptx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&#33539;&#25991;2&#65306;&#25163;&#26426;&#30340;&#31192;&#23494;.pptx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4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6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文本框 2" descr=""/>
          <p:cNvPicPr/>
          <p:nvPr/>
        </p:nvPicPr>
        <p:blipFill>
          <a:blip r:embed="rId1"/>
          <a:stretch/>
        </p:blipFill>
        <p:spPr>
          <a:xfrm>
            <a:off x="758880" y="1681200"/>
            <a:ext cx="7381800" cy="1388880"/>
          </a:xfrm>
          <a:prstGeom prst="rect">
            <a:avLst/>
          </a:prstGeom>
          <a:ln w="0">
            <a:noFill/>
          </a:ln>
        </p:spPr>
      </p:pic>
      <p:sp>
        <p:nvSpPr>
          <p:cNvPr id="1444" name="矩形 4"/>
          <p:cNvSpPr/>
          <p:nvPr/>
        </p:nvSpPr>
        <p:spPr>
          <a:xfrm>
            <a:off x="755640" y="1206360"/>
            <a:ext cx="1908360" cy="48276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圆角矩形 6"/>
          <p:cNvSpPr/>
          <p:nvPr/>
        </p:nvSpPr>
        <p:spPr>
          <a:xfrm>
            <a:off x="304920" y="608040"/>
            <a:ext cx="2716200" cy="487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文本框 3"/>
          <p:cNvSpPr/>
          <p:nvPr/>
        </p:nvSpPr>
        <p:spPr>
          <a:xfrm>
            <a:off x="369720" y="574200"/>
            <a:ext cx="49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按所属范围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文本框 4"/>
          <p:cNvSpPr/>
          <p:nvPr/>
        </p:nvSpPr>
        <p:spPr>
          <a:xfrm>
            <a:off x="1781280" y="2141640"/>
            <a:ext cx="20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物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左大括号 1"/>
          <p:cNvSpPr/>
          <p:nvPr/>
        </p:nvSpPr>
        <p:spPr>
          <a:xfrm>
            <a:off x="3848040" y="1190520"/>
            <a:ext cx="352440" cy="2819520"/>
          </a:xfrm>
          <a:custGeom>
            <a:avLst/>
            <a:gdLst>
              <a:gd name="textAreaLeft" fmla="*/ 225360 w 352440"/>
              <a:gd name="textAreaRight" fmla="*/ 352800 w 352440"/>
              <a:gd name="textAreaTop" fmla="*/ 9000 h 2819520"/>
              <a:gd name="textAreaBottom" fmla="*/ 281052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"/>
                  <a:pt x="10800" y="224"/>
                </a:cubicBezTo>
                <a:lnTo>
                  <a:pt x="10800" y="10576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2"/>
                  <a:pt x="10800" y="11024"/>
                </a:cubicBezTo>
                <a:lnTo>
                  <a:pt x="10800" y="21376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文本框 5"/>
          <p:cNvSpPr/>
          <p:nvPr/>
        </p:nvSpPr>
        <p:spPr>
          <a:xfrm>
            <a:off x="4336920" y="1109520"/>
            <a:ext cx="1528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玩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宠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工艺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圆角矩形 6"/>
          <p:cNvSpPr/>
          <p:nvPr/>
        </p:nvSpPr>
        <p:spPr>
          <a:xfrm>
            <a:off x="369720" y="573120"/>
            <a:ext cx="2714760" cy="487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文本框 3"/>
          <p:cNvSpPr/>
          <p:nvPr/>
        </p:nvSpPr>
        <p:spPr>
          <a:xfrm>
            <a:off x="369720" y="574200"/>
            <a:ext cx="49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按所属范围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文本框 4"/>
          <p:cNvSpPr/>
          <p:nvPr/>
        </p:nvSpPr>
        <p:spPr>
          <a:xfrm>
            <a:off x="1884240" y="229716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物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左大括号 1"/>
          <p:cNvSpPr/>
          <p:nvPr/>
        </p:nvSpPr>
        <p:spPr>
          <a:xfrm>
            <a:off x="3848040" y="1298520"/>
            <a:ext cx="392040" cy="2703600"/>
          </a:xfrm>
          <a:custGeom>
            <a:avLst/>
            <a:gdLst>
              <a:gd name="textAreaLeft" fmla="*/ 250560 w 392040"/>
              <a:gd name="textAreaRight" fmla="*/ 392400 w 392040"/>
              <a:gd name="textAreaTop" fmla="*/ 10080 h 2703600"/>
              <a:gd name="textAreaBottom" fmla="*/ 2693520 h 270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1"/>
                  <a:pt x="10800" y="261"/>
                </a:cubicBezTo>
                <a:lnTo>
                  <a:pt x="10800" y="10539"/>
                </a:lnTo>
                <a:cubicBezTo>
                  <a:pt x="10800" y="10670"/>
                  <a:pt x="5400" y="10800"/>
                  <a:pt x="0" y="10800"/>
                </a:cubicBezTo>
                <a:cubicBezTo>
                  <a:pt x="5400" y="10800"/>
                  <a:pt x="10800" y="10931"/>
                  <a:pt x="10800" y="11061"/>
                </a:cubicBezTo>
                <a:lnTo>
                  <a:pt x="10800" y="21339"/>
                </a:lnTo>
                <a:cubicBezTo>
                  <a:pt x="10800" y="2147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文本框 5"/>
          <p:cNvSpPr/>
          <p:nvPr/>
        </p:nvSpPr>
        <p:spPr>
          <a:xfrm>
            <a:off x="4240080" y="1411200"/>
            <a:ext cx="314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的校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室里的黑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的校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的市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的特色美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圆角矩形 6"/>
          <p:cNvSpPr/>
          <p:nvPr/>
        </p:nvSpPr>
        <p:spPr>
          <a:xfrm>
            <a:off x="369720" y="573120"/>
            <a:ext cx="2714760" cy="487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文本框 3"/>
          <p:cNvSpPr/>
          <p:nvPr/>
        </p:nvSpPr>
        <p:spPr>
          <a:xfrm>
            <a:off x="369720" y="574200"/>
            <a:ext cx="49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按所属范围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文本框 4"/>
          <p:cNvSpPr/>
          <p:nvPr/>
        </p:nvSpPr>
        <p:spPr>
          <a:xfrm>
            <a:off x="1727280" y="211212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家物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左大括号 1"/>
          <p:cNvSpPr/>
          <p:nvPr/>
        </p:nvSpPr>
        <p:spPr>
          <a:xfrm>
            <a:off x="3848040" y="1227240"/>
            <a:ext cx="392040" cy="2300040"/>
          </a:xfrm>
          <a:custGeom>
            <a:avLst/>
            <a:gdLst>
              <a:gd name="textAreaLeft" fmla="*/ 250560 w 392040"/>
              <a:gd name="textAreaRight" fmla="*/ 392400 w 392040"/>
              <a:gd name="textAreaTop" fmla="*/ 10080 h 2300040"/>
              <a:gd name="textAreaBottom" fmla="*/ 2289960 h 23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文本框 5"/>
          <p:cNvSpPr/>
          <p:nvPr/>
        </p:nvSpPr>
        <p:spPr>
          <a:xfrm>
            <a:off x="4240080" y="1036800"/>
            <a:ext cx="272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历史博物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国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手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旅游风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圆角矩形 6"/>
          <p:cNvSpPr/>
          <p:nvPr/>
        </p:nvSpPr>
        <p:spPr>
          <a:xfrm>
            <a:off x="369720" y="573120"/>
            <a:ext cx="2714760" cy="487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文本框 3"/>
          <p:cNvSpPr/>
          <p:nvPr/>
        </p:nvSpPr>
        <p:spPr>
          <a:xfrm>
            <a:off x="369720" y="574200"/>
            <a:ext cx="49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按所属范围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文本框 4"/>
          <p:cNvSpPr/>
          <p:nvPr/>
        </p:nvSpPr>
        <p:spPr>
          <a:xfrm>
            <a:off x="1860480" y="229716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然事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左大括号 1"/>
          <p:cNvSpPr/>
          <p:nvPr/>
        </p:nvSpPr>
        <p:spPr>
          <a:xfrm>
            <a:off x="3848040" y="1587600"/>
            <a:ext cx="392040" cy="1939680"/>
          </a:xfrm>
          <a:custGeom>
            <a:avLst/>
            <a:gdLst>
              <a:gd name="textAreaLeft" fmla="*/ 250560 w 392040"/>
              <a:gd name="textAreaRight" fmla="*/ 392400 w 392040"/>
              <a:gd name="textAreaTop" fmla="*/ 10080 h 1939680"/>
              <a:gd name="textAreaBottom" fmla="*/ 1929600 h 193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2"/>
                  <a:pt x="10800" y="363"/>
                </a:cubicBezTo>
                <a:lnTo>
                  <a:pt x="10800" y="10437"/>
                </a:lnTo>
                <a:cubicBezTo>
                  <a:pt x="10800" y="10619"/>
                  <a:pt x="5400" y="10800"/>
                  <a:pt x="0" y="10800"/>
                </a:cubicBezTo>
                <a:cubicBezTo>
                  <a:pt x="5400" y="10800"/>
                  <a:pt x="10800" y="10982"/>
                  <a:pt x="10800" y="11163"/>
                </a:cubicBezTo>
                <a:lnTo>
                  <a:pt x="10800" y="21237"/>
                </a:lnTo>
                <a:cubicBezTo>
                  <a:pt x="10800" y="2141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文本框 5"/>
          <p:cNvSpPr/>
          <p:nvPr/>
        </p:nvSpPr>
        <p:spPr>
          <a:xfrm>
            <a:off x="4240080" y="1419120"/>
            <a:ext cx="262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雨雷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山川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宇宙星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丽风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物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2" descr=""/>
          <p:cNvPicPr/>
          <p:nvPr/>
        </p:nvPicPr>
        <p:blipFill>
          <a:blip r:embed="rId1"/>
          <a:stretch/>
        </p:blipFill>
        <p:spPr>
          <a:xfrm>
            <a:off x="1120680" y="574560"/>
            <a:ext cx="6935760" cy="4078440"/>
          </a:xfrm>
          <a:prstGeom prst="rect">
            <a:avLst/>
          </a:prstGeom>
          <a:ln w="0">
            <a:noFill/>
          </a:ln>
        </p:spPr>
      </p:pic>
      <p:sp>
        <p:nvSpPr>
          <p:cNvPr id="1499" name="文本框 3"/>
          <p:cNvSpPr/>
          <p:nvPr/>
        </p:nvSpPr>
        <p:spPr>
          <a:xfrm>
            <a:off x="3406680" y="97776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大家的思路真是宽广，不过老师建议选一个你最感兴趣的事物来写。你该如何介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0" name=""/>
          <p:cNvGraphicFramePr/>
          <p:nvPr/>
        </p:nvGraphicFramePr>
        <p:xfrm>
          <a:off x="711360" y="1270080"/>
          <a:ext cx="7719840" cy="2725560"/>
        </p:xfrm>
        <a:graphic>
          <a:graphicData uri="http://schemas.openxmlformats.org/drawingml/2006/table">
            <a:tbl>
              <a:tblPr/>
              <a:tblGrid>
                <a:gridCol w="2573280"/>
                <a:gridCol w="2573280"/>
                <a:gridCol w="257328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从哪几个方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使用什么说明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需要哪些观察和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资料搜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</a:tr>
              <a:tr h="67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风信子的叶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摹状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搜索图片观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</a:tr>
              <a:tr h="67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风信子的花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列数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搜索图片观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8"/>
                    </a:solidFill>
                  </a:tcPr>
                </a:tc>
              </a:tr>
              <a:tr h="67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字的由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引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搜索百科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</a:tr>
            </a:tbl>
          </a:graphicData>
        </a:graphic>
      </p:graphicFrame>
      <p:sp>
        <p:nvSpPr>
          <p:cNvPr id="1501" name="文本框 4"/>
          <p:cNvSpPr/>
          <p:nvPr/>
        </p:nvSpPr>
        <p:spPr>
          <a:xfrm>
            <a:off x="2381400" y="524160"/>
            <a:ext cx="48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明对象：风信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文本框 6"/>
          <p:cNvSpPr/>
          <p:nvPr/>
        </p:nvSpPr>
        <p:spPr>
          <a:xfrm>
            <a:off x="1541520" y="4286520"/>
            <a:ext cx="57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事物特点时，要分几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711360" y="1198440"/>
          <a:ext cx="7719840" cy="2725560"/>
        </p:xfrm>
        <a:graphic>
          <a:graphicData uri="http://schemas.openxmlformats.org/drawingml/2006/table">
            <a:tbl>
              <a:tblPr/>
              <a:tblGrid>
                <a:gridCol w="2573280"/>
                <a:gridCol w="2573280"/>
                <a:gridCol w="257328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分几个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使用什么说明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需要哪些观察和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资料搜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4d6"/>
                    </a:solidFill>
                  </a:tcPr>
                </a:tc>
              </a:tr>
              <a:tr h="67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制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比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搜索百科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</a:tr>
              <a:tr h="67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掐丝 点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举例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看相关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8"/>
                    </a:solidFill>
                  </a:tcPr>
                </a:tc>
              </a:tr>
              <a:tr h="67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烧制 打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比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搜索百科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0"/>
                    </a:solidFill>
                  </a:tcPr>
                </a:tc>
              </a:tr>
            </a:tbl>
          </a:graphicData>
        </a:graphic>
      </p:graphicFrame>
      <p:sp>
        <p:nvSpPr>
          <p:cNvPr id="1504" name="文本框 4"/>
          <p:cNvSpPr/>
          <p:nvPr/>
        </p:nvSpPr>
        <p:spPr>
          <a:xfrm>
            <a:off x="2381400" y="453600"/>
            <a:ext cx="48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明对象：泰蓝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文本框 3"/>
          <p:cNvSpPr/>
          <p:nvPr/>
        </p:nvSpPr>
        <p:spPr>
          <a:xfrm>
            <a:off x="1596960" y="4196880"/>
            <a:ext cx="57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某种做法时，要分几个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TextBox 1" descr=""/>
          <p:cNvPicPr/>
          <p:nvPr/>
        </p:nvPicPr>
        <p:blipFill>
          <a:blip r:embed="rId1"/>
          <a:stretch/>
        </p:blipFill>
        <p:spPr>
          <a:xfrm>
            <a:off x="2344680" y="1274760"/>
            <a:ext cx="4713480" cy="2162160"/>
          </a:xfrm>
          <a:prstGeom prst="rect">
            <a:avLst/>
          </a:prstGeom>
          <a:ln w="0">
            <a:noFill/>
          </a:ln>
        </p:spPr>
      </p:pic>
      <p:pic>
        <p:nvPicPr>
          <p:cNvPr id="1507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2" descr=""/>
          <p:cNvPicPr/>
          <p:nvPr/>
        </p:nvPicPr>
        <p:blipFill>
          <a:blip r:embed="rId1"/>
          <a:stretch/>
        </p:blipFill>
        <p:spPr>
          <a:xfrm>
            <a:off x="1120680" y="601560"/>
            <a:ext cx="6999480" cy="4114800"/>
          </a:xfrm>
          <a:prstGeom prst="rect">
            <a:avLst/>
          </a:prstGeom>
          <a:ln w="0">
            <a:noFill/>
          </a:ln>
        </p:spPr>
      </p:pic>
      <p:sp>
        <p:nvSpPr>
          <p:cNvPr id="1509" name="文本框 3"/>
          <p:cNvSpPr/>
          <p:nvPr/>
        </p:nvSpPr>
        <p:spPr>
          <a:xfrm>
            <a:off x="3406680" y="127476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就是如何使用恰当的说明方法说明事物了，我们可以向课文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文本框 1"/>
          <p:cNvSpPr/>
          <p:nvPr/>
        </p:nvSpPr>
        <p:spPr>
          <a:xfrm>
            <a:off x="833400" y="2067480"/>
            <a:ext cx="747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松鼠是一种漂亮的小动物，乖巧，驯良，很讨人喜欢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它们虽然有时也捕捉鸟雀，却不是肉食动物，常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吃的是杏仁、榛子、榉实和橡栗。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它们面容清秀，眼睛闪闪发光，身体矫健，四肢轻快，非常敏捷，非常机警。玲珑的小面孔，衬上一条帽缨形的美丽尾巴，显得格外漂亮。尾巴老是翘起来，一直翘到头上，自己就躲在尾巴底下歇凉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它们常常直竖着身子坐着，像人们用手一样，用前爪往嘴里送东西吃。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可以说，松鼠最不像四足兽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对话气泡: 圆角矩形 2"/>
          <p:cNvSpPr/>
          <p:nvPr/>
        </p:nvSpPr>
        <p:spPr>
          <a:xfrm>
            <a:off x="2023920" y="479520"/>
            <a:ext cx="2397240" cy="368280"/>
          </a:xfrm>
          <a:prstGeom prst="wedgeRoundRectCallout">
            <a:avLst>
              <a:gd name="adj1" fmla="val 29736"/>
              <a:gd name="adj2" fmla="val 124800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整体写出松鼠特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对话气泡: 圆角矩形 3"/>
          <p:cNvSpPr/>
          <p:nvPr/>
        </p:nvSpPr>
        <p:spPr>
          <a:xfrm>
            <a:off x="155520" y="1266840"/>
            <a:ext cx="598680" cy="966600"/>
          </a:xfrm>
          <a:prstGeom prst="wedgeRoundRectCallout">
            <a:avLst>
              <a:gd name="adj1" fmla="val 81833"/>
              <a:gd name="adj2" fmla="val 40680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举例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对话气泡: 圆角矩形 4"/>
          <p:cNvSpPr/>
          <p:nvPr/>
        </p:nvSpPr>
        <p:spPr>
          <a:xfrm>
            <a:off x="8174160" y="1909800"/>
            <a:ext cx="598320" cy="966600"/>
          </a:xfrm>
          <a:prstGeom prst="wedgeRoundRectCallout">
            <a:avLst>
              <a:gd name="adj1" fmla="val -86231"/>
              <a:gd name="adj2" fmla="val 43796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摹状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对话气泡: 圆角矩形 5"/>
          <p:cNvSpPr/>
          <p:nvPr/>
        </p:nvSpPr>
        <p:spPr>
          <a:xfrm>
            <a:off x="2030400" y="4295880"/>
            <a:ext cx="1192320" cy="495360"/>
          </a:xfrm>
          <a:prstGeom prst="wedgeRoundRectCallout">
            <a:avLst>
              <a:gd name="adj1" fmla="val -50865"/>
              <a:gd name="adj2" fmla="val -92134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打比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2" descr="https://timgsa.baidu.com/timg?image&amp;quality=80&amp;size=b9999_10000&amp;sec=1586834896112&amp;di=5b5a2bf950291e631030395137827e35&amp;imgtype=0&amp;src=http%3A%2F%2Fpic1.win4000.com%2Fwallpaper%2F2%2F543e2eb616578.jpg"/>
          <p:cNvPicPr/>
          <p:nvPr/>
        </p:nvPicPr>
        <p:blipFill>
          <a:blip r:embed="rId1"/>
          <a:stretch/>
        </p:blipFill>
        <p:spPr>
          <a:xfrm>
            <a:off x="785880" y="611280"/>
            <a:ext cx="3620880" cy="226224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4" descr="https://timgsa.baidu.com/timg?image&amp;quality=80&amp;size=b9999_10000&amp;sec=1586834946376&amp;di=58877ea78c82ca384b6d1124ed6e2a15&amp;imgtype=0&amp;src=http%3A%2F%2Fpic1.win4000.com%2Fwallpaper%2Fd%2F573fd558b19b5.jpg"/>
          <p:cNvPicPr/>
          <p:nvPr/>
        </p:nvPicPr>
        <p:blipFill>
          <a:blip r:embed="rId2"/>
          <a:stretch/>
        </p:blipFill>
        <p:spPr>
          <a:xfrm>
            <a:off x="4098960" y="2205000"/>
            <a:ext cx="387972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文本框 1"/>
          <p:cNvSpPr/>
          <p:nvPr/>
        </p:nvSpPr>
        <p:spPr>
          <a:xfrm>
            <a:off x="1738440" y="2031120"/>
            <a:ext cx="5713200" cy="581400"/>
          </a:xfrm>
          <a:prstGeom prst="rect">
            <a:avLst/>
          </a:prstGeom>
          <a:solidFill>
            <a:srgbClr val="eeee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采用总分的结构，使用多种说明手法，将松鼠的特点写得形象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矩形 2"/>
          <p:cNvSpPr/>
          <p:nvPr/>
        </p:nvSpPr>
        <p:spPr>
          <a:xfrm>
            <a:off x="1049400" y="1235160"/>
            <a:ext cx="71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的头圆而大，尾巴比较短。躯干和尾巴是白色，两耳、眼睛和四肢是全黑色。我栖息在海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400-35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的高山竹林内。平时喜欢一个人在竹林中散步，常在竹林内卧睡，平时单独活动，行动缓慢，故得雅号“竹林隐士”。你看我胖胖的，有人说我是“食肉”动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是我不是“食肉”动物哟，我可是货真价实的“素食”动物，喜欢吃竹子或者野果。别看我身体肥肥的，爬树可是数一数二的，连猴子都敬我三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文本框 3"/>
          <p:cNvSpPr/>
          <p:nvPr/>
        </p:nvSpPr>
        <p:spPr>
          <a:xfrm>
            <a:off x="1127160" y="77436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们来模仿课文写一写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宝大熊猫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TextBox 1" descr=""/>
          <p:cNvPicPr/>
          <p:nvPr/>
        </p:nvPicPr>
        <p:blipFill>
          <a:blip r:embed="rId1"/>
          <a:stretch/>
        </p:blipFill>
        <p:spPr>
          <a:xfrm>
            <a:off x="2727360" y="1612800"/>
            <a:ext cx="4659120" cy="1177920"/>
          </a:xfrm>
          <a:prstGeom prst="rect">
            <a:avLst/>
          </a:prstGeom>
          <a:ln w="0">
            <a:noFill/>
          </a:ln>
        </p:spPr>
      </p:pic>
      <p:pic>
        <p:nvPicPr>
          <p:cNvPr id="1519" name="图片 2" descr=""/>
          <p:cNvPicPr/>
          <p:nvPr/>
        </p:nvPicPr>
        <p:blipFill>
          <a:blip r:embed="rId2"/>
          <a:stretch/>
        </p:blipFill>
        <p:spPr>
          <a:xfrm>
            <a:off x="673200" y="134784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会选择我最熟悉的事物来写，这样写得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更丰富，更真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1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522" name="文本框 2"/>
          <p:cNvSpPr/>
          <p:nvPr/>
        </p:nvSpPr>
        <p:spPr>
          <a:xfrm>
            <a:off x="236520" y="1844640"/>
            <a:ext cx="8223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了让更多人感兴趣，我想写一个最前沿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物，引起他们的阅读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3" descr=""/>
          <p:cNvPicPr/>
          <p:nvPr/>
        </p:nvPicPr>
        <p:blipFill>
          <a:blip r:embed="rId2"/>
          <a:stretch/>
        </p:blipFill>
        <p:spPr>
          <a:xfrm>
            <a:off x="7967520" y="177336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524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说明文一定要查找资料，从图书或网络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找，但是资料不能全信，要辨别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5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黑体"/>
                <a:ea typeface="黑体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图片 5" descr=""/>
          <p:cNvPicPr/>
          <p:nvPr/>
        </p:nvPicPr>
        <p:blipFill>
          <a:blip r:embed="rId1"/>
          <a:stretch/>
        </p:blipFill>
        <p:spPr>
          <a:xfrm>
            <a:off x="987480" y="281160"/>
            <a:ext cx="7281720" cy="4281480"/>
          </a:xfrm>
          <a:prstGeom prst="rect">
            <a:avLst/>
          </a:prstGeom>
          <a:ln w="0">
            <a:noFill/>
          </a:ln>
        </p:spPr>
      </p:pic>
      <p:sp>
        <p:nvSpPr>
          <p:cNvPr id="1529" name="文本框 8"/>
          <p:cNvSpPr/>
          <p:nvPr/>
        </p:nvSpPr>
        <p:spPr>
          <a:xfrm>
            <a:off x="3379680" y="907920"/>
            <a:ext cx="38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的作文内容了吗？不要急于下笔，先好好构思，编写好写作提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矩形 1"/>
          <p:cNvSpPr/>
          <p:nvPr/>
        </p:nvSpPr>
        <p:spPr>
          <a:xfrm>
            <a:off x="1895400" y="1704960"/>
            <a:ext cx="4900680" cy="19227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打算写什么事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个事物有哪些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者你想写什么事物的制作或形成过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写作中你打算用什么说明手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打算拟什么样的题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2"/>
          <p:cNvSpPr/>
          <p:nvPr/>
        </p:nvSpPr>
        <p:spPr>
          <a:xfrm>
            <a:off x="3191040" y="2682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矩形 4"/>
          <p:cNvSpPr/>
          <p:nvPr/>
        </p:nvSpPr>
        <p:spPr>
          <a:xfrm>
            <a:off x="4051080" y="1012680"/>
            <a:ext cx="782640" cy="45972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选自己最感兴趣的事物，写一篇说明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3" name="组合 2"/>
          <p:cNvGrpSpPr/>
          <p:nvPr/>
        </p:nvGrpSpPr>
        <p:grpSpPr>
          <a:xfrm>
            <a:off x="1473120" y="768240"/>
            <a:ext cx="1360440" cy="666720"/>
            <a:chOff x="1473120" y="768240"/>
            <a:chExt cx="1360440" cy="666720"/>
          </a:xfrm>
        </p:grpSpPr>
        <p:sp>
          <p:nvSpPr>
            <p:cNvPr id="1534" name="云形 3"/>
            <p:cNvSpPr/>
            <p:nvPr/>
          </p:nvSpPr>
          <p:spPr>
            <a:xfrm>
              <a:off x="147312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TextBox 4"/>
            <p:cNvSpPr/>
            <p:nvPr/>
          </p:nvSpPr>
          <p:spPr>
            <a:xfrm>
              <a:off x="1618920" y="7898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文本框 2"/>
          <p:cNvSpPr/>
          <p:nvPr/>
        </p:nvSpPr>
        <p:spPr>
          <a:xfrm>
            <a:off x="374760" y="1292400"/>
            <a:ext cx="63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乡的蕲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左大括号 1"/>
          <p:cNvSpPr/>
          <p:nvPr/>
        </p:nvSpPr>
        <p:spPr>
          <a:xfrm>
            <a:off x="963720" y="1036800"/>
            <a:ext cx="288720" cy="33336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3333600"/>
              <a:gd name="textAreaBottom" fmla="*/ 3326400 h 33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组合 8"/>
          <p:cNvGrpSpPr/>
          <p:nvPr/>
        </p:nvGrpSpPr>
        <p:grpSpPr>
          <a:xfrm>
            <a:off x="1344600" y="1984320"/>
            <a:ext cx="1317600" cy="731880"/>
            <a:chOff x="1344600" y="1984320"/>
            <a:chExt cx="1317600" cy="731880"/>
          </a:xfrm>
        </p:grpSpPr>
        <p:sp>
          <p:nvSpPr>
            <p:cNvPr id="1539" name="云形 9"/>
            <p:cNvSpPr/>
            <p:nvPr/>
          </p:nvSpPr>
          <p:spPr>
            <a:xfrm>
              <a:off x="1344600" y="1986120"/>
              <a:ext cx="131760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TextBox 10"/>
            <p:cNvSpPr/>
            <p:nvPr/>
          </p:nvSpPr>
          <p:spPr>
            <a:xfrm>
              <a:off x="1493280" y="1984320"/>
              <a:ext cx="116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组合 12"/>
          <p:cNvGrpSpPr/>
          <p:nvPr/>
        </p:nvGrpSpPr>
        <p:grpSpPr>
          <a:xfrm>
            <a:off x="1473120" y="3703680"/>
            <a:ext cx="1278000" cy="666720"/>
            <a:chOff x="1473120" y="3703680"/>
            <a:chExt cx="1278000" cy="666720"/>
          </a:xfrm>
        </p:grpSpPr>
        <p:sp>
          <p:nvSpPr>
            <p:cNvPr id="1542" name="云形 13"/>
            <p:cNvSpPr/>
            <p:nvPr/>
          </p:nvSpPr>
          <p:spPr>
            <a:xfrm>
              <a:off x="1473120" y="3703680"/>
              <a:ext cx="12780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TextBox 14"/>
            <p:cNvSpPr/>
            <p:nvPr/>
          </p:nvSpPr>
          <p:spPr>
            <a:xfrm>
              <a:off x="1618920" y="3725280"/>
              <a:ext cx="113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左大括号 15"/>
          <p:cNvSpPr/>
          <p:nvPr/>
        </p:nvSpPr>
        <p:spPr>
          <a:xfrm>
            <a:off x="2948040" y="1590840"/>
            <a:ext cx="306360" cy="158400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000"/>
              <a:gd name="textAreaBottom" fmla="*/ 157608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7439"/>
                </a:lnTo>
                <a:cubicBezTo>
                  <a:pt x="10800" y="7613"/>
                  <a:pt x="5400" y="7787"/>
                  <a:pt x="0" y="7787"/>
                </a:cubicBezTo>
                <a:cubicBezTo>
                  <a:pt x="5400" y="7787"/>
                  <a:pt x="10800" y="7961"/>
                  <a:pt x="10800" y="813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Box 19"/>
          <p:cNvSpPr/>
          <p:nvPr/>
        </p:nvSpPr>
        <p:spPr>
          <a:xfrm>
            <a:off x="3254400" y="1469880"/>
            <a:ext cx="50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介绍蕲艾的生长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21"/>
          <p:cNvSpPr/>
          <p:nvPr/>
        </p:nvSpPr>
        <p:spPr>
          <a:xfrm>
            <a:off x="3254400" y="203688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介绍蕲艾的的外形，从高度、茎叶再到根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Box 28"/>
          <p:cNvSpPr/>
          <p:nvPr/>
        </p:nvSpPr>
        <p:spPr>
          <a:xfrm>
            <a:off x="3102120" y="3803760"/>
            <a:ext cx="38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对蕲艾的赞美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Box 23"/>
          <p:cNvSpPr/>
          <p:nvPr/>
        </p:nvSpPr>
        <p:spPr>
          <a:xfrm>
            <a:off x="3054240" y="69840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步步引出介绍对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乡的蕲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Box 21"/>
          <p:cNvSpPr/>
          <p:nvPr/>
        </p:nvSpPr>
        <p:spPr>
          <a:xfrm>
            <a:off x="3254400" y="247644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介绍日常使用功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驱蚊消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Box 21"/>
          <p:cNvSpPr/>
          <p:nvPr/>
        </p:nvSpPr>
        <p:spPr>
          <a:xfrm>
            <a:off x="3330720" y="2924280"/>
            <a:ext cx="54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进一步介绍蕲艾的药用价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1" name="组合 2"/>
          <p:cNvGrpSpPr/>
          <p:nvPr/>
        </p:nvGrpSpPr>
        <p:grpSpPr>
          <a:xfrm>
            <a:off x="1473120" y="768240"/>
            <a:ext cx="1360440" cy="666720"/>
            <a:chOff x="1473120" y="768240"/>
            <a:chExt cx="1360440" cy="666720"/>
          </a:xfrm>
        </p:grpSpPr>
        <p:sp>
          <p:nvSpPr>
            <p:cNvPr id="1552" name="云形 3"/>
            <p:cNvSpPr/>
            <p:nvPr/>
          </p:nvSpPr>
          <p:spPr>
            <a:xfrm>
              <a:off x="147312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TextBox 4"/>
            <p:cNvSpPr/>
            <p:nvPr/>
          </p:nvSpPr>
          <p:spPr>
            <a:xfrm>
              <a:off x="1618920" y="7898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4" name="文本框 2"/>
          <p:cNvSpPr/>
          <p:nvPr/>
        </p:nvSpPr>
        <p:spPr>
          <a:xfrm>
            <a:off x="363600" y="1127160"/>
            <a:ext cx="63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乡美食酥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左大括号 1"/>
          <p:cNvSpPr/>
          <p:nvPr/>
        </p:nvSpPr>
        <p:spPr>
          <a:xfrm>
            <a:off x="963720" y="1036800"/>
            <a:ext cx="288720" cy="33336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3333600"/>
              <a:gd name="textAreaBottom" fmla="*/ 3326400 h 33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组合 8"/>
          <p:cNvGrpSpPr/>
          <p:nvPr/>
        </p:nvGrpSpPr>
        <p:grpSpPr>
          <a:xfrm>
            <a:off x="1449360" y="1838160"/>
            <a:ext cx="1319400" cy="733680"/>
            <a:chOff x="1449360" y="1838160"/>
            <a:chExt cx="1319400" cy="733680"/>
          </a:xfrm>
        </p:grpSpPr>
        <p:sp>
          <p:nvSpPr>
            <p:cNvPr id="1557" name="云形 9"/>
            <p:cNvSpPr/>
            <p:nvPr/>
          </p:nvSpPr>
          <p:spPr>
            <a:xfrm>
              <a:off x="1449360" y="1839960"/>
              <a:ext cx="1319400" cy="7318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TextBox 10"/>
            <p:cNvSpPr/>
            <p:nvPr/>
          </p:nvSpPr>
          <p:spPr>
            <a:xfrm>
              <a:off x="1598040" y="1838160"/>
              <a:ext cx="11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组合 12"/>
          <p:cNvGrpSpPr/>
          <p:nvPr/>
        </p:nvGrpSpPr>
        <p:grpSpPr>
          <a:xfrm>
            <a:off x="1449360" y="3732120"/>
            <a:ext cx="1278000" cy="666720"/>
            <a:chOff x="1449360" y="3732120"/>
            <a:chExt cx="1278000" cy="666720"/>
          </a:xfrm>
        </p:grpSpPr>
        <p:sp>
          <p:nvSpPr>
            <p:cNvPr id="1560" name="云形 13"/>
            <p:cNvSpPr/>
            <p:nvPr/>
          </p:nvSpPr>
          <p:spPr>
            <a:xfrm>
              <a:off x="1449360" y="3732120"/>
              <a:ext cx="12780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TextBox 14"/>
            <p:cNvSpPr/>
            <p:nvPr/>
          </p:nvSpPr>
          <p:spPr>
            <a:xfrm>
              <a:off x="1595160" y="3753720"/>
              <a:ext cx="113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左大括号 15"/>
          <p:cNvSpPr/>
          <p:nvPr/>
        </p:nvSpPr>
        <p:spPr>
          <a:xfrm>
            <a:off x="2948040" y="1590840"/>
            <a:ext cx="306360" cy="132048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320480"/>
              <a:gd name="textAreaBottom" fmla="*/ 1312560 h 132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9"/>
                  <a:pt x="10800" y="417"/>
                </a:cubicBezTo>
                <a:lnTo>
                  <a:pt x="10800" y="7370"/>
                </a:lnTo>
                <a:cubicBezTo>
                  <a:pt x="10800" y="7579"/>
                  <a:pt x="5400" y="7787"/>
                  <a:pt x="0" y="7787"/>
                </a:cubicBezTo>
                <a:cubicBezTo>
                  <a:pt x="5400" y="7787"/>
                  <a:pt x="10800" y="7996"/>
                  <a:pt x="10800" y="8204"/>
                </a:cubicBezTo>
                <a:lnTo>
                  <a:pt x="10800" y="21183"/>
                </a:lnTo>
                <a:cubicBezTo>
                  <a:pt x="10800" y="2139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19"/>
          <p:cNvSpPr/>
          <p:nvPr/>
        </p:nvSpPr>
        <p:spPr>
          <a:xfrm>
            <a:off x="3254400" y="1430280"/>
            <a:ext cx="50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介绍其独特的味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Box 21"/>
          <p:cNvSpPr/>
          <p:nvPr/>
        </p:nvSpPr>
        <p:spPr>
          <a:xfrm>
            <a:off x="3254400" y="1996920"/>
            <a:ext cx="40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介绍其悠久的历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28"/>
          <p:cNvSpPr/>
          <p:nvPr/>
        </p:nvSpPr>
        <p:spPr>
          <a:xfrm>
            <a:off x="3102120" y="3803760"/>
            <a:ext cx="52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展知识，写出美食中的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23"/>
          <p:cNvSpPr/>
          <p:nvPr/>
        </p:nvSpPr>
        <p:spPr>
          <a:xfrm>
            <a:off x="3054240" y="69840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出美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酥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21"/>
          <p:cNvSpPr/>
          <p:nvPr/>
        </p:nvSpPr>
        <p:spPr>
          <a:xfrm>
            <a:off x="3254400" y="26258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介绍美食相关的习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组合 2"/>
          <p:cNvGrpSpPr/>
          <p:nvPr/>
        </p:nvGrpSpPr>
        <p:grpSpPr>
          <a:xfrm>
            <a:off x="1473120" y="768240"/>
            <a:ext cx="1360440" cy="666720"/>
            <a:chOff x="1473120" y="768240"/>
            <a:chExt cx="1360440" cy="666720"/>
          </a:xfrm>
        </p:grpSpPr>
        <p:sp>
          <p:nvSpPr>
            <p:cNvPr id="1569" name="云形 3"/>
            <p:cNvSpPr/>
            <p:nvPr/>
          </p:nvSpPr>
          <p:spPr>
            <a:xfrm>
              <a:off x="147312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TextBox 4"/>
            <p:cNvSpPr/>
            <p:nvPr/>
          </p:nvSpPr>
          <p:spPr>
            <a:xfrm>
              <a:off x="1618920" y="7898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文本框 2"/>
          <p:cNvSpPr/>
          <p:nvPr/>
        </p:nvSpPr>
        <p:spPr>
          <a:xfrm>
            <a:off x="382680" y="1100160"/>
            <a:ext cx="63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机的秘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左大括号 1"/>
          <p:cNvSpPr/>
          <p:nvPr/>
        </p:nvSpPr>
        <p:spPr>
          <a:xfrm>
            <a:off x="963720" y="1036800"/>
            <a:ext cx="288720" cy="33336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3333600"/>
              <a:gd name="textAreaBottom" fmla="*/ 3326400 h 33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8"/>
          <p:cNvGrpSpPr/>
          <p:nvPr/>
        </p:nvGrpSpPr>
        <p:grpSpPr>
          <a:xfrm>
            <a:off x="1461960" y="1838160"/>
            <a:ext cx="1317600" cy="733680"/>
            <a:chOff x="1461960" y="1838160"/>
            <a:chExt cx="1317600" cy="733680"/>
          </a:xfrm>
        </p:grpSpPr>
        <p:sp>
          <p:nvSpPr>
            <p:cNvPr id="1574" name="云形 9"/>
            <p:cNvSpPr/>
            <p:nvPr/>
          </p:nvSpPr>
          <p:spPr>
            <a:xfrm>
              <a:off x="1461960" y="1839960"/>
              <a:ext cx="1317600" cy="7318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TextBox 10"/>
            <p:cNvSpPr/>
            <p:nvPr/>
          </p:nvSpPr>
          <p:spPr>
            <a:xfrm>
              <a:off x="1610640" y="1838160"/>
              <a:ext cx="116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12"/>
          <p:cNvGrpSpPr/>
          <p:nvPr/>
        </p:nvGrpSpPr>
        <p:grpSpPr>
          <a:xfrm>
            <a:off x="1461960" y="3763800"/>
            <a:ext cx="1278000" cy="667080"/>
            <a:chOff x="1461960" y="3763800"/>
            <a:chExt cx="1278000" cy="667080"/>
          </a:xfrm>
        </p:grpSpPr>
        <p:sp>
          <p:nvSpPr>
            <p:cNvPr id="1577" name="云形 13"/>
            <p:cNvSpPr/>
            <p:nvPr/>
          </p:nvSpPr>
          <p:spPr>
            <a:xfrm>
              <a:off x="1461960" y="3763800"/>
              <a:ext cx="1278000" cy="667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TextBox 14"/>
            <p:cNvSpPr/>
            <p:nvPr/>
          </p:nvSpPr>
          <p:spPr>
            <a:xfrm>
              <a:off x="1607760" y="3785760"/>
              <a:ext cx="113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9" name="左大括号 15"/>
          <p:cNvSpPr/>
          <p:nvPr/>
        </p:nvSpPr>
        <p:spPr>
          <a:xfrm>
            <a:off x="2948040" y="1590840"/>
            <a:ext cx="306360" cy="158400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000"/>
              <a:gd name="textAreaBottom" fmla="*/ 157608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7439"/>
                </a:lnTo>
                <a:cubicBezTo>
                  <a:pt x="10800" y="7613"/>
                  <a:pt x="5400" y="7787"/>
                  <a:pt x="0" y="7787"/>
                </a:cubicBezTo>
                <a:cubicBezTo>
                  <a:pt x="5400" y="7787"/>
                  <a:pt x="10800" y="7961"/>
                  <a:pt x="10800" y="813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Box 19"/>
          <p:cNvSpPr/>
          <p:nvPr/>
        </p:nvSpPr>
        <p:spPr>
          <a:xfrm>
            <a:off x="3254400" y="1430280"/>
            <a:ext cx="50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介绍手机的种类和主要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Box 21"/>
          <p:cNvSpPr/>
          <p:nvPr/>
        </p:nvSpPr>
        <p:spPr>
          <a:xfrm>
            <a:off x="3254400" y="1996920"/>
            <a:ext cx="40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按照时间顺序介绍手机发展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28"/>
          <p:cNvSpPr/>
          <p:nvPr/>
        </p:nvSpPr>
        <p:spPr>
          <a:xfrm>
            <a:off x="3102120" y="3803760"/>
            <a:ext cx="47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结全文，照应开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Box 23"/>
          <p:cNvSpPr/>
          <p:nvPr/>
        </p:nvSpPr>
        <p:spPr>
          <a:xfrm>
            <a:off x="3054240" y="69840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写手机的重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Box 21"/>
          <p:cNvSpPr/>
          <p:nvPr/>
        </p:nvSpPr>
        <p:spPr>
          <a:xfrm>
            <a:off x="3254400" y="2460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举例介绍手机的好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Box 21"/>
          <p:cNvSpPr/>
          <p:nvPr/>
        </p:nvSpPr>
        <p:spPr>
          <a:xfrm>
            <a:off x="3311640" y="286056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举例介绍手机的危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https://timgsa.baidu.com/timg?image&amp;quality=80&amp;size=b9999_10000&amp;sec=1586835016404&amp;di=90366b85f28bf67be15082333fe42448&amp;imgtype=0&amp;src=http%3A%2F%2Fimg1.imgtn.bdimg.com%2Fit%2Fu%3D2006912101%2C3566494175%26fm%3D214%26gp%3D0.jpg"/>
          <p:cNvPicPr/>
          <p:nvPr/>
        </p:nvPicPr>
        <p:blipFill>
          <a:blip r:embed="rId1"/>
          <a:stretch/>
        </p:blipFill>
        <p:spPr>
          <a:xfrm>
            <a:off x="939960" y="463680"/>
            <a:ext cx="3865320" cy="257652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4" descr="https://ss1.bdstatic.com/70cFuXSh_Q1YnxGkpoWK1HF6hhy/it/u=2012901073,2163984268&amp;fm=26&amp;gp=0.jpg"/>
          <p:cNvPicPr/>
          <p:nvPr/>
        </p:nvPicPr>
        <p:blipFill>
          <a:blip r:embed="rId2"/>
          <a:stretch/>
        </p:blipFill>
        <p:spPr>
          <a:xfrm>
            <a:off x="4164120" y="1751040"/>
            <a:ext cx="378936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矩形 1"/>
          <p:cNvSpPr/>
          <p:nvPr/>
        </p:nvSpPr>
        <p:spPr>
          <a:xfrm>
            <a:off x="785880" y="3770280"/>
            <a:ext cx="7759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写好之后，和同位交换一下，看看谁写的最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9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黑体"/>
                <a:ea typeface="黑体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1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sp>
        <p:nvSpPr>
          <p:cNvPr id="1592" name="箭头: V 形 7"/>
          <p:cNvSpPr/>
          <p:nvPr/>
        </p:nvSpPr>
        <p:spPr>
          <a:xfrm>
            <a:off x="1474920" y="588960"/>
            <a:ext cx="172800" cy="220680"/>
          </a:xfrm>
          <a:custGeom>
            <a:avLst/>
            <a:gdLst>
              <a:gd name="textAreaLeft" fmla="*/ 0 w 172800"/>
              <a:gd name="textAreaRight" fmla="*/ 173160 w 172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09" y="0"/>
                </a:lnTo>
                <a:lnTo>
                  <a:pt x="21600" y="10800"/>
                </a:lnTo>
                <a:lnTo>
                  <a:pt x="12009" y="21600"/>
                </a:lnTo>
                <a:lnTo>
                  <a:pt x="0" y="21600"/>
                </a:lnTo>
                <a:lnTo>
                  <a:pt x="9591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3" name="图片 8" descr=""/>
          <p:cNvPicPr/>
          <p:nvPr/>
        </p:nvPicPr>
        <p:blipFill>
          <a:blip r:embed="rId2"/>
          <a:stretch/>
        </p:blipFill>
        <p:spPr>
          <a:xfrm>
            <a:off x="123840" y="431640"/>
            <a:ext cx="1438200" cy="33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94" name="文本框 15"/>
          <p:cNvSpPr/>
          <p:nvPr/>
        </p:nvSpPr>
        <p:spPr>
          <a:xfrm>
            <a:off x="120600" y="41580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矩形 3"/>
          <p:cNvSpPr/>
          <p:nvPr/>
        </p:nvSpPr>
        <p:spPr>
          <a:xfrm>
            <a:off x="598320" y="1168560"/>
            <a:ext cx="657576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的家乡在湖北蕲春，也是著名医圣李时珍的故乡。家乡有四宝：蕲龟、蕲艾、蕲竹和蕲蛇。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在这四宝中，我最熟悉的、最喜爱的是蕲艾。蕲艾又名大叶艾、祁艾等，因产于蕲州而得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蕲艾极易繁衍生长，对气候和土壤的适应性较强，耐寒耐旱。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正因为它对生长环境要求不高，所以它的生命力顽强，易栽种，易存活，而且以野生居多。在田边、地头、山坡、荒地均可选择为种植地。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比如在我们家乡蕲春县，无论是在田间地头，还是湖畔山边，都能见到蕲艾的身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矩形 5"/>
          <p:cNvSpPr/>
          <p:nvPr/>
        </p:nvSpPr>
        <p:spPr>
          <a:xfrm>
            <a:off x="2929320" y="638280"/>
            <a:ext cx="138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家乡的蕲艾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文本框 14"/>
          <p:cNvSpPr/>
          <p:nvPr/>
        </p:nvSpPr>
        <p:spPr>
          <a:xfrm>
            <a:off x="703440" y="352440"/>
            <a:ext cx="214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13"/>
          <p:cNvSpPr/>
          <p:nvPr/>
        </p:nvSpPr>
        <p:spPr>
          <a:xfrm>
            <a:off x="7209000" y="743040"/>
            <a:ext cx="171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一步步引出介绍对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仿宋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家乡的蕲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介绍蕲艾的生长环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这里运用了举例子说明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图片 8" descr=""/>
          <p:cNvPicPr/>
          <p:nvPr/>
        </p:nvPicPr>
        <p:blipFill>
          <a:blip r:embed="rId1"/>
          <a:stretch/>
        </p:blipFill>
        <p:spPr>
          <a:xfrm>
            <a:off x="284040" y="407880"/>
            <a:ext cx="419400" cy="4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矩形 3"/>
          <p:cNvSpPr/>
          <p:nvPr/>
        </p:nvSpPr>
        <p:spPr>
          <a:xfrm>
            <a:off x="579600" y="790560"/>
            <a:ext cx="657540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ts val="29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蕲艾株高大约</a:t>
            </a: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80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厘米，茎直立，圆形有棱，柔软的叶片是披针形，上面被灰白色短柔毛，并有白色腺点与小凹点，背面密被灰白色蛛丝状密绒毛；叶片上的细毛呈白色，密密麻麻，摸上去毛茸茸的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植株有浓烈香气，常有横卧地下根状茎及营养枝。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蕲艾还可以驱蚊消毒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将整株的蕲艾放在房间里，一会儿满屋都是淡淡的香味。端午这一天，人们喜欢用干蕲艾与昌蒲一起点燃熏室，这样能灭杀和控制空气中的许多细菌和病毒，对蚊蝇有明显的杀伤力，很多蚊香中的主要成分里就含有蕲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13"/>
          <p:cNvSpPr/>
          <p:nvPr/>
        </p:nvSpPr>
        <p:spPr>
          <a:xfrm>
            <a:off x="7209000" y="625320"/>
            <a:ext cx="17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介绍蕲艾的的外形，从高度、茎叶再到根部， 从上到下有序介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介绍日常使用功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驱蚊消毒，并与端午风俗联接起来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矩形 3"/>
          <p:cNvSpPr/>
          <p:nvPr/>
        </p:nvSpPr>
        <p:spPr>
          <a:xfrm>
            <a:off x="579600" y="790560"/>
            <a:ext cx="65754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蕲艾的茎和叶都可以入药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味苦而辛，有理气血、逐寒湿、调经安胎、温经止血、清热止咳消痰等功效。内服可做止血剂，捣汁服，止伤血，杀蛔虫，治带下，止霍乱转筋，痢后寒热。用蕲艾配方，亦能治老年人慢性支气管炎、哮喘、肠胃炎及痢疾等症。外用可治皮肤瘙痒、阴痒湿疹及疥癣等。以艾搓手洗污或煎水浴身，可防治皮肤病。对于产妇和婴儿，洗用艾叶可以消毒强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矩形 13"/>
          <p:cNvSpPr/>
          <p:nvPr/>
        </p:nvSpPr>
        <p:spPr>
          <a:xfrm>
            <a:off x="7209000" y="841320"/>
            <a:ext cx="171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进一步介绍蕲艾的药用价值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组合 7"/>
          <p:cNvGrpSpPr/>
          <p:nvPr/>
        </p:nvGrpSpPr>
        <p:grpSpPr>
          <a:xfrm>
            <a:off x="1268280" y="3300480"/>
            <a:ext cx="1871640" cy="896760"/>
            <a:chOff x="1268280" y="3300480"/>
            <a:chExt cx="1871640" cy="896760"/>
          </a:xfrm>
        </p:grpSpPr>
        <p:pic>
          <p:nvPicPr>
            <p:cNvPr id="1609" name="矩形: 圆角 9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344240" y="330048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图片 10" descr=""/>
            <p:cNvPicPr/>
            <p:nvPr/>
          </p:nvPicPr>
          <p:blipFill>
            <a:blip r:embed="rId3"/>
            <a:stretch/>
          </p:blipFill>
          <p:spPr>
            <a:xfrm>
              <a:off x="1268280" y="3395160"/>
              <a:ext cx="833040" cy="80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1" name="组合 11"/>
          <p:cNvGrpSpPr/>
          <p:nvPr/>
        </p:nvGrpSpPr>
        <p:grpSpPr>
          <a:xfrm>
            <a:off x="4572000" y="3300480"/>
            <a:ext cx="1873080" cy="896760"/>
            <a:chOff x="4572000" y="3300480"/>
            <a:chExt cx="1873080" cy="896760"/>
          </a:xfrm>
        </p:grpSpPr>
        <p:pic>
          <p:nvPicPr>
            <p:cNvPr id="1612" name="矩形: 圆角 14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648320" y="3300480"/>
              <a:ext cx="179676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图片 15" descr=""/>
            <p:cNvPicPr/>
            <p:nvPr/>
          </p:nvPicPr>
          <p:blipFill>
            <a:blip r:embed="rId6"/>
            <a:stretch/>
          </p:blipFill>
          <p:spPr>
            <a:xfrm>
              <a:off x="4572000" y="3395160"/>
              <a:ext cx="833760" cy="80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4" name="矩形 1"/>
          <p:cNvSpPr/>
          <p:nvPr/>
        </p:nvSpPr>
        <p:spPr>
          <a:xfrm>
            <a:off x="674640" y="1125360"/>
            <a:ext cx="61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家乡的蕲艾，你真了不起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矩形 3"/>
          <p:cNvSpPr/>
          <p:nvPr/>
        </p:nvSpPr>
        <p:spPr>
          <a:xfrm>
            <a:off x="7191360" y="1125360"/>
            <a:ext cx="170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结尾表达对蕲艾的赞美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图示 3" descr=""/>
          <p:cNvPicPr/>
          <p:nvPr/>
        </p:nvPicPr>
        <p:blipFill>
          <a:blip r:embed="rId1"/>
          <a:stretch/>
        </p:blipFill>
        <p:spPr>
          <a:xfrm>
            <a:off x="419040" y="1028880"/>
            <a:ext cx="8302680" cy="3170160"/>
          </a:xfrm>
          <a:prstGeom prst="rect">
            <a:avLst/>
          </a:prstGeom>
          <a:ln w="0">
            <a:noFill/>
          </a:ln>
        </p:spPr>
      </p:pic>
      <p:sp>
        <p:nvSpPr>
          <p:cNvPr id="1617" name="矩形 2"/>
          <p:cNvSpPr/>
          <p:nvPr/>
        </p:nvSpPr>
        <p:spPr>
          <a:xfrm>
            <a:off x="3845160" y="463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图片 3" descr=""/>
          <p:cNvPicPr/>
          <p:nvPr/>
        </p:nvPicPr>
        <p:blipFill>
          <a:blip r:embed="rId1"/>
          <a:stretch/>
        </p:blipFill>
        <p:spPr>
          <a:xfrm>
            <a:off x="1104840" y="501480"/>
            <a:ext cx="7229520" cy="4249800"/>
          </a:xfrm>
          <a:prstGeom prst="rect">
            <a:avLst/>
          </a:prstGeom>
          <a:ln w="0">
            <a:noFill/>
          </a:ln>
        </p:spPr>
      </p:pic>
      <p:sp>
        <p:nvSpPr>
          <p:cNvPr id="1619" name="文本框 4"/>
          <p:cNvSpPr/>
          <p:nvPr/>
        </p:nvSpPr>
        <p:spPr>
          <a:xfrm>
            <a:off x="3608280" y="934920"/>
            <a:ext cx="365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矩形 3"/>
          <p:cNvSpPr/>
          <p:nvPr/>
        </p:nvSpPr>
        <p:spPr>
          <a:xfrm>
            <a:off x="2058840" y="763560"/>
            <a:ext cx="5440680" cy="361620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没有错别字，语句通顺，表达流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词准确生动，意思表达清楚明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结构清晰，详略得当，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开头能点明主题，结尾能恰当呼应、升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立意较好，符合主流价值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主旨明确，有真情实感，抒发手法多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语言生动有个性，恰当使用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符合本次作文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抓住了事物的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使用了恰当的说明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能从几个方面或步骤介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内容丰富，表达准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4"/>
          <p:cNvSpPr/>
          <p:nvPr/>
        </p:nvSpPr>
        <p:spPr>
          <a:xfrm>
            <a:off x="1660680" y="763560"/>
            <a:ext cx="398160" cy="3616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评   价   标   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Picture 4" descr="https://timgsa.baidu.com/timg?image&amp;quality=80&amp;size=b9999_10000&amp;sec=1586835432762&amp;di=42275d354da0fa30753b9287df526c21&amp;imgtype=0&amp;src=http%3A%2F%2Fwww.canyin88.com%2Fuploads%2Fimage%2F2016%2F12%2F21%2F1482302938393518.jpg"/>
          <p:cNvPicPr/>
          <p:nvPr/>
        </p:nvPicPr>
        <p:blipFill>
          <a:blip r:embed="rId1"/>
          <a:stretch/>
        </p:blipFill>
        <p:spPr>
          <a:xfrm>
            <a:off x="546120" y="619200"/>
            <a:ext cx="3519360" cy="245268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6" descr="https://timgsa.baidu.com/timg?image&amp;quality=80&amp;size=b9999_10000&amp;sec=1586835508244&amp;di=372893c1ad14c11c053402b02ea6a5a3&amp;imgtype=0&amp;src=http%3A%2F%2Fwww.hspp.cn%2Fuploadfile%2F2017%2F0420%2F20170420022006898.jpg"/>
          <p:cNvPicPr/>
          <p:nvPr/>
        </p:nvPicPr>
        <p:blipFill>
          <a:blip r:embed="rId2"/>
          <a:stretch/>
        </p:blipFill>
        <p:spPr>
          <a:xfrm>
            <a:off x="3786120" y="1552680"/>
            <a:ext cx="4208400" cy="27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矩形 1"/>
          <p:cNvSpPr/>
          <p:nvPr/>
        </p:nvSpPr>
        <p:spPr>
          <a:xfrm>
            <a:off x="550800" y="1147680"/>
            <a:ext cx="804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别看它在未开花时形如大蒜，很普通的样子。可是花朵一旦开放，它可就成为“百变女神”啦，色彩纷呈，美丽照人。在早春时节，风信子就开放了，在春风中飘着芳香，在每年的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或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月份开得最为艳丽。风信子花香有稳定情绪、消除疲劳的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矩形 2"/>
          <p:cNvSpPr/>
          <p:nvPr/>
        </p:nvSpPr>
        <p:spPr>
          <a:xfrm>
            <a:off x="250920" y="563400"/>
            <a:ext cx="136188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文本框 3"/>
          <p:cNvSpPr/>
          <p:nvPr/>
        </p:nvSpPr>
        <p:spPr>
          <a:xfrm>
            <a:off x="1612800" y="492120"/>
            <a:ext cx="677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下面是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风信子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评改前的段落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读一读，看看有什么问题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4"/>
          <p:cNvSpPr/>
          <p:nvPr/>
        </p:nvSpPr>
        <p:spPr>
          <a:xfrm>
            <a:off x="1216080" y="3024360"/>
            <a:ext cx="1361880" cy="44100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问题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文本框 5"/>
          <p:cNvSpPr/>
          <p:nvPr/>
        </p:nvSpPr>
        <p:spPr>
          <a:xfrm>
            <a:off x="1216080" y="3465360"/>
            <a:ext cx="6989760" cy="39888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开头缺少一句中心句引导，“色彩纷呈”过于笼统，应该列出有哪些颜色。此外“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份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最为艳丽”表述错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矩形 1"/>
          <p:cNvSpPr/>
          <p:nvPr/>
        </p:nvSpPr>
        <p:spPr>
          <a:xfrm>
            <a:off x="731880" y="2338560"/>
            <a:ext cx="7794720" cy="642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风信子的花朵可美丽了！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别看它在未开花时形如大蒜，很普通的样子。可是花朵一旦开放，它可就成为“百变女神”啦，色彩纷呈，美丽照人。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看，蓝色、粉红色、白色、鹅黄色、紫色、黄色、绯红色、红色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简直是大自然天然的调色板。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在早春时节，风信子就开放了，在春风中飘着芳香，在每年的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月份开得最为艳丽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。风信子花香有稳定情绪、消除疲劳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矩形 2"/>
          <p:cNvSpPr/>
          <p:nvPr/>
        </p:nvSpPr>
        <p:spPr>
          <a:xfrm>
            <a:off x="250920" y="492120"/>
            <a:ext cx="1361880" cy="4017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文本框 3"/>
          <p:cNvSpPr/>
          <p:nvPr/>
        </p:nvSpPr>
        <p:spPr>
          <a:xfrm>
            <a:off x="1612800" y="401760"/>
            <a:ext cx="654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说说为什么这么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矩形 4"/>
          <p:cNvSpPr/>
          <p:nvPr/>
        </p:nvSpPr>
        <p:spPr>
          <a:xfrm>
            <a:off x="674640" y="985680"/>
            <a:ext cx="790884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别看它在未开花时形如大蒜，很普通的样子。可是花朵一旦开放，它可就成为“百变女神”啦，色彩纷呈，美丽照人。在早春时节，风信子就开放了，在春风中飘着芳香，在每年的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或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月份开得最为艳丽。风信子花香有稳定情绪、消除疲劳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矩形 5"/>
          <p:cNvSpPr/>
          <p:nvPr/>
        </p:nvSpPr>
        <p:spPr>
          <a:xfrm>
            <a:off x="303120" y="968400"/>
            <a:ext cx="398520" cy="121752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6"/>
          <p:cNvSpPr/>
          <p:nvPr/>
        </p:nvSpPr>
        <p:spPr>
          <a:xfrm>
            <a:off x="333360" y="2338560"/>
            <a:ext cx="398520" cy="14763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评改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文本框 11"/>
          <p:cNvSpPr/>
          <p:nvPr/>
        </p:nvSpPr>
        <p:spPr>
          <a:xfrm>
            <a:off x="1254240" y="4162320"/>
            <a:ext cx="641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加入中心句，让中心更明确；列出了颜色，让内容更可信；“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”改成“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”，这样表意更明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文本框 4"/>
          <p:cNvSpPr/>
          <p:nvPr/>
        </p:nvSpPr>
        <p:spPr>
          <a:xfrm>
            <a:off x="2303640" y="882720"/>
            <a:ext cx="42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文本框 6"/>
          <p:cNvSpPr/>
          <p:nvPr/>
        </p:nvSpPr>
        <p:spPr>
          <a:xfrm>
            <a:off x="1714680" y="152892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抓住特点，分几个方面介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步骤明确，写出事物制作或形成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要使用说明手法，突显说明文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掌握大量材料，挑选最精彩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文本框 7"/>
          <p:cNvSpPr/>
          <p:nvPr/>
        </p:nvSpPr>
        <p:spPr>
          <a:xfrm>
            <a:off x="1558800" y="1325520"/>
            <a:ext cx="6026400" cy="1191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介绍一种事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"/>
          <p:cNvSpPr/>
          <p:nvPr/>
        </p:nvSpPr>
        <p:spPr>
          <a:xfrm flipH="1">
            <a:off x="-720" y="112680"/>
            <a:ext cx="2771640" cy="250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文本框 1"/>
          <p:cNvSpPr/>
          <p:nvPr/>
        </p:nvSpPr>
        <p:spPr>
          <a:xfrm>
            <a:off x="389160" y="633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五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图片 14" descr=""/>
          <p:cNvPicPr/>
          <p:nvPr/>
        </p:nvPicPr>
        <p:blipFill>
          <a:blip r:embed="rId1"/>
          <a:stretch/>
        </p:blipFill>
        <p:spPr>
          <a:xfrm>
            <a:off x="7205760" y="399564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5" name="图片 15" descr=""/>
          <p:cNvPicPr/>
          <p:nvPr/>
        </p:nvPicPr>
        <p:blipFill>
          <a:blip r:embed="rId2"/>
          <a:stretch/>
        </p:blipFill>
        <p:spPr>
          <a:xfrm>
            <a:off x="7205760" y="4336920"/>
            <a:ext cx="1438200" cy="33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6" name="文本框 15"/>
          <p:cNvSpPr/>
          <p:nvPr/>
        </p:nvSpPr>
        <p:spPr>
          <a:xfrm>
            <a:off x="7203960" y="397980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14"/>
          <p:cNvSpPr/>
          <p:nvPr/>
        </p:nvSpPr>
        <p:spPr>
          <a:xfrm>
            <a:off x="7215120" y="432900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黑体"/>
                <a:ea typeface="黑体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pic>
        <p:nvPicPr>
          <p:cNvPr id="1460" name="图片 3" descr=""/>
          <p:cNvPicPr/>
          <p:nvPr/>
        </p:nvPicPr>
        <p:blipFill>
          <a:blip r:embed="rId2"/>
          <a:stretch/>
        </p:blipFill>
        <p:spPr>
          <a:xfrm>
            <a:off x="139680" y="42552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1" name="文本框 15"/>
          <p:cNvSpPr/>
          <p:nvPr/>
        </p:nvSpPr>
        <p:spPr>
          <a:xfrm>
            <a:off x="138240" y="409680"/>
            <a:ext cx="1085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TextBox 3"/>
          <p:cNvSpPr/>
          <p:nvPr/>
        </p:nvSpPr>
        <p:spPr>
          <a:xfrm>
            <a:off x="166680" y="889920"/>
            <a:ext cx="4321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如果选择一种你了解并感兴趣的事物介绍给别人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你打算介绍什么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下面表格中的提示和题目对你是否有启发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Box 5"/>
          <p:cNvSpPr/>
          <p:nvPr/>
        </p:nvSpPr>
        <p:spPr>
          <a:xfrm>
            <a:off x="4572000" y="1282680"/>
            <a:ext cx="4367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可以选择表格中的题目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也可以自拟题目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介绍一种事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写之前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细致观察要写的事物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并搜集相关资料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进一步了解这个事物想清楚从哪几方面来介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写的时候注意以下几点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   ◇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写清楚事物的主要特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   ◇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试着用上恰当的说明方法。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   ◇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可以分段介绍事物的各个方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写好后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与同学交流分享。如果别人对你介绍的事物产生了兴趣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获得了相关知识</a:t>
            </a: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你就完成了一次成功的习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166680" y="1733400"/>
          <a:ext cx="4270320" cy="3200400"/>
        </p:xfrm>
        <a:graphic>
          <a:graphicData uri="http://schemas.openxmlformats.org/drawingml/2006/table">
            <a:tbl>
              <a:tblPr/>
              <a:tblGrid>
                <a:gridCol w="1206360"/>
                <a:gridCol w="306396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动物有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恐龙  袋鼠的自述  动物的尾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植物有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菊花  热带植物大观园  种子的旅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物品有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灯  扫地机器人  溜溜球的玩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美食有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涮羊肉  怎样泡酸菜  我的美食地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其他感兴趣的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火星的秘密  草原旅游指南  中国传统吉祥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65" name="矩形 14"/>
          <p:cNvSpPr/>
          <p:nvPr/>
        </p:nvSpPr>
        <p:spPr>
          <a:xfrm>
            <a:off x="166680" y="1657440"/>
            <a:ext cx="4157640" cy="215748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对话气泡: 圆角矩形 19"/>
          <p:cNvSpPr/>
          <p:nvPr/>
        </p:nvSpPr>
        <p:spPr>
          <a:xfrm>
            <a:off x="2246400" y="4505400"/>
            <a:ext cx="1306440" cy="368280"/>
          </a:xfrm>
          <a:prstGeom prst="wedgeRoundRectCallout">
            <a:avLst>
              <a:gd name="adj1" fmla="val -20935"/>
              <a:gd name="adj2" fmla="val -153842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材范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5"/>
          <p:cNvSpPr/>
          <p:nvPr/>
        </p:nvSpPr>
        <p:spPr>
          <a:xfrm>
            <a:off x="4491000" y="1306440"/>
            <a:ext cx="4492800" cy="44604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对话气泡: 圆角矩形 16"/>
          <p:cNvSpPr/>
          <p:nvPr/>
        </p:nvSpPr>
        <p:spPr>
          <a:xfrm>
            <a:off x="4491000" y="476280"/>
            <a:ext cx="1308240" cy="368280"/>
          </a:xfrm>
          <a:prstGeom prst="wedgeRoundRectCallout">
            <a:avLst>
              <a:gd name="adj1" fmla="val -30930"/>
              <a:gd name="adj2" fmla="val 122069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写作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21"/>
          <p:cNvSpPr/>
          <p:nvPr/>
        </p:nvSpPr>
        <p:spPr>
          <a:xfrm>
            <a:off x="4529160" y="1960560"/>
            <a:ext cx="4491000" cy="64440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对话气泡: 圆角矩形 23"/>
          <p:cNvSpPr/>
          <p:nvPr/>
        </p:nvSpPr>
        <p:spPr>
          <a:xfrm>
            <a:off x="4572000" y="3868560"/>
            <a:ext cx="1306440" cy="366840"/>
          </a:xfrm>
          <a:prstGeom prst="wedgeRoundRectCallout">
            <a:avLst>
              <a:gd name="adj1" fmla="val -22578"/>
              <a:gd name="adj2" fmla="val -349236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写作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直接连接符 6"/>
          <p:cNvSpPr/>
          <p:nvPr/>
        </p:nvSpPr>
        <p:spPr>
          <a:xfrm>
            <a:off x="6238800" y="2208240"/>
            <a:ext cx="8589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直接连接符 24"/>
          <p:cNvSpPr/>
          <p:nvPr/>
        </p:nvSpPr>
        <p:spPr>
          <a:xfrm>
            <a:off x="6445080" y="242424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直接连接符 25"/>
          <p:cNvSpPr/>
          <p:nvPr/>
        </p:nvSpPr>
        <p:spPr>
          <a:xfrm>
            <a:off x="5500800" y="2639880"/>
            <a:ext cx="7570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2" descr=""/>
          <p:cNvPicPr/>
          <p:nvPr/>
        </p:nvPicPr>
        <p:blipFill>
          <a:blip r:embed="rId1"/>
          <a:stretch/>
        </p:blipFill>
        <p:spPr>
          <a:xfrm>
            <a:off x="1104840" y="398520"/>
            <a:ext cx="6996240" cy="4113000"/>
          </a:xfrm>
          <a:prstGeom prst="rect">
            <a:avLst/>
          </a:prstGeom>
          <a:ln w="0">
            <a:noFill/>
          </a:ln>
        </p:spPr>
      </p:pic>
      <p:sp>
        <p:nvSpPr>
          <p:cNvPr id="1475" name="文本框 3"/>
          <p:cNvSpPr/>
          <p:nvPr/>
        </p:nvSpPr>
        <p:spPr>
          <a:xfrm>
            <a:off x="3630600" y="108108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这是一篇说明文写作，我们首先要确定写作对象。你想写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文本框 3"/>
          <p:cNvSpPr/>
          <p:nvPr/>
        </p:nvSpPr>
        <p:spPr>
          <a:xfrm>
            <a:off x="1123920" y="76464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按类别进行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7" name=""/>
          <p:cNvGraphicFramePr/>
          <p:nvPr/>
        </p:nvGraphicFramePr>
        <p:xfrm>
          <a:off x="1123920" y="1309680"/>
          <a:ext cx="5618160" cy="2809800"/>
        </p:xfrm>
        <a:graphic>
          <a:graphicData uri="http://schemas.openxmlformats.org/drawingml/2006/table">
            <a:tbl>
              <a:tblPr/>
              <a:tblGrid>
                <a:gridCol w="1589040"/>
                <a:gridCol w="4029120"/>
              </a:tblGrid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动物有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恐龙  袋鼠的自述  动物的尾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  <a:tr h="59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植物有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菊花  热带植物大观园  种子的旅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  <a:tr h="49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物品有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灯  扫地机器人  溜溜球的玩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与美食有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涮羊肉  怎样泡酸菜  我的美食地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其他感兴趣的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火星的秘密  草原旅游指南  中国传统吉祥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556">
                        <a:alpha val="79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3:27:18Z</dcterms:created>
  <dc:creator>Administrator</dc:creator>
  <dc:description/>
  <dc:language>en-US</dc:language>
  <cp:lastModifiedBy>万润仪器贸易公司</cp:lastModifiedBy>
  <dcterms:modified xsi:type="dcterms:W3CDTF">2020-08-24T06:39:20Z</dcterms:modified>
  <cp:revision>2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